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7FCE-EE43-4A17-87AB-09183ED4E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C35C-11CD-404C-BE1B-F8DC466283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7A75-BCC2-462B-ACB6-35ED77318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D267-E729-4B5C-A889-F880CDCCC8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8BCD-A531-4B4C-B5B5-AC5BF7FC42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AD9E-6DBE-45A0-8294-E009D76913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F3F3-1C75-4468-9961-12722F1C3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4AD8-57FA-45E4-89BB-153791E0AF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.B.  When you remove the –re infinitive ending from a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JUGATION VERB, the short “e” also falls off (It’s too weak to hang 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esent tense, you squeeze in the letter –i- to attach endings ,-s,-t,-mus,-tis; -u- before –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o verbs like facio, capio, fugio, already come with that –i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790C-DB26-4863-8A8C-292DC4851D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337B-05E7-4271-B0B3-3E9E0D95E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19BB-219C-41DE-974C-D05765A6DC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4A60-1115-45EA-9DE5-17C7F2132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F579-639F-46D4-AB19-AD2BE859C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4EB9-C24B-41D1-B9BB-AD9C56C76B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B081-218B-440F-988E-8BAB604A12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B92-5008-4054-B167-06DC0265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5D4-2981-4297-B37B-6307DA5A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309-2FC6-423E-97A2-C0E986F5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8E3-82FA-428D-B037-382E4C7E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01D1-4D22-463C-85B6-C873CDAB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7F9E-5621-49D5-B40F-8502181D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7EB9-6A97-4F92-9989-716E922C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8338-035C-4EEA-90F7-A62DAE43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F087-AAE1-4397-9B1F-7F3DE5FD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2587-B152-4181-AC2A-A13EC7FE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0DBD-7219-41CF-8CE6-DDDAC0E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7DF-0727-49E5-A162-D59E5090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29D4-EA6B-45EE-93E9-039A6515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EC08-3619-4EEF-B7F0-B085EB87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D6F2-9C52-402A-A985-4493F7D3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F535-D60D-4CD5-9084-72E54A48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DCC2-056D-4330-8915-B2F4C4E5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94D-1FFC-4AEE-8B6C-E0E3F30E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52D-4F54-4ABD-B207-208F212F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C82-0EDA-488D-A35B-44269827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2D6-B773-4856-A989-168CFD45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19E-3DEB-4A26-B0AF-901CD0A9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663-5861-45A4-AD24-11C23EA8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469-CE76-4573-81B3-5CECAD8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3FAC-E81C-4A91-AA87-52A801B4D2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870B-B4EE-49F1-8184-F650AFAB77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RMING LATIN </a:t>
            </a:r>
            <a:br>
              <a:rPr sz="5400"/>
            </a:b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VERB TENS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to turn any* Latin verb into any t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* Any regular verb; these are irregular in the present, imperfect and future: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um, possum, volo, nolo, eo, fe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se PERFECT ENDINGS are used only on the PERFECT TENS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them to the normal personal endings used on other ten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945720" y="3056040"/>
            <a:ext cx="113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286000" y="3048120"/>
            <a:ext cx="236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m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st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r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THE PLUPERFECT TEN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-era-+ normal endings to the PERFECT stem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360160" y="1828800"/>
            <a:ext cx="21351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52280" y="175248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800600" y="18288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7010280" y="1828800"/>
            <a:ext cx="2133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275480" y="5526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anslate all forms into English with “HAD  ……ED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KE THE FUTURE PERFECT TEN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–eri-+ normal endings to the PERFECT 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60160" y="1828800"/>
            <a:ext cx="213516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52280" y="1752480"/>
            <a:ext cx="2133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800600" y="1828800"/>
            <a:ext cx="2133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7010280" y="1828800"/>
            <a:ext cx="2133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04920" y="57150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B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. –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er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nding on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erson singular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EP THE –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ERI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erson pl, to distinguish it from the PERFECT -ERU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RANSLATING THE PERFECT TENS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545400" y="3462480"/>
            <a:ext cx="80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ECT:  I  loved, I HAVE loved; he loved, he HAS lov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67080" y="4317840"/>
            <a:ext cx="73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UPERFECT:  I HAD loved  ---all forms need the word “HAD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-86040" y="5257800"/>
            <a:ext cx="93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TURE PERFECT:  I WILL  HAVE loved– all forms need the words “WILL HAV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-out of the 6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ways start with the principal parts to get the proper stem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amo, amare          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</a:rPr>
              <a:t>amav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PR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amo, 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, amat…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ER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, amavisti, amav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IMPEF   am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m,amabas…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LUPERF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am, amavera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FUTURE  am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, amabis,…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FUT. PERF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, amaveri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3 tenses use the PRESENT STEM from the INFIN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st 3 tenses use PERFECT STEM from the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rincipal par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FINI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903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t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i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di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666880" y="1600200"/>
            <a:ext cx="548640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re &gt;&gt; stem ends in –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Ere &gt;&gt; stem ends in -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e &gt;&gt; stem ends in –t*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ere &gt;&gt; stem ends in –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re &gt;&gt; stem ends in -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AKE THE PRESENT TENSE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d person endings to the 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114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895480" y="1676520"/>
            <a:ext cx="2210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105520" y="1600200"/>
            <a:ext cx="2209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u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934320" y="1676520"/>
            <a:ext cx="2209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u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KE THE IMPERFECT TENS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dd –</a:t>
            </a:r>
            <a:r>
              <a:rPr b="0" lang="en-US" sz="4000" spc="-1" strike="noStrike">
                <a:solidFill>
                  <a:srgbClr val="57e6f5"/>
                </a:solidFill>
                <a:latin typeface="Arial"/>
              </a:rPr>
              <a:t>ba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+endings to the stem</a:t>
            </a:r>
            <a:br>
              <a:rPr sz="4000"/>
            </a:br>
            <a:r>
              <a:rPr b="0" lang="en-US" sz="2700" spc="-1" strike="noStrike">
                <a:solidFill>
                  <a:srgbClr val="ffcc66"/>
                </a:solidFill>
                <a:latin typeface="Arial"/>
              </a:rPr>
              <a:t>for 3</a:t>
            </a:r>
            <a:r>
              <a:rPr b="0" lang="en-US" sz="27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ffcc66"/>
                </a:solidFill>
                <a:latin typeface="Arial"/>
              </a:rPr>
              <a:t> and 4</a:t>
            </a:r>
            <a:r>
              <a:rPr b="0" lang="en-US" sz="27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cc66"/>
                </a:solidFill>
                <a:latin typeface="Arial"/>
              </a:rPr>
              <a:t> conj, “glue in” the –ba- with an “–e’”</a:t>
            </a:r>
            <a:endParaRPr b="0" lang="en-US" sz="2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228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81952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105520" y="2362320"/>
            <a:ext cx="2209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93432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KE THE FUTURE TENSE #1-2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dd –</a:t>
            </a:r>
            <a:r>
              <a:rPr b="0" lang="en-US" sz="4000" spc="-1" strike="noStrike">
                <a:solidFill>
                  <a:srgbClr val="e06ce0"/>
                </a:solidFill>
                <a:latin typeface="Arial"/>
              </a:rPr>
              <a:t>bi*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+endings to the stem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590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u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952880" y="1981080"/>
            <a:ext cx="2210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u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48280" y="5950080"/>
            <a:ext cx="77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6ce0"/>
                </a:solidFill>
                <a:latin typeface="Tahoma"/>
              </a:rPr>
              <a:t>*notice how the –bi- changes to –bo in 1</a:t>
            </a:r>
            <a:r>
              <a:rPr b="0" lang="en-US" sz="2000" spc="-1" strike="noStrike" baseline="30000">
                <a:solidFill>
                  <a:srgbClr val="e06ce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e06ce0"/>
                </a:solidFill>
                <a:latin typeface="Tahoma"/>
              </a:rPr>
              <a:t> sg, and to –bu in 3</a:t>
            </a:r>
            <a:r>
              <a:rPr b="0" lang="en-US" sz="2000" spc="-1" strike="noStrike" baseline="30000">
                <a:solidFill>
                  <a:srgbClr val="e06ce0"/>
                </a:solidFill>
                <a:latin typeface="Tahoma"/>
              </a:rPr>
              <a:t>rd</a:t>
            </a:r>
            <a:r>
              <a:rPr b="0" lang="en-US" sz="2000" spc="-1" strike="noStrike">
                <a:solidFill>
                  <a:srgbClr val="e06ce0"/>
                </a:solidFill>
                <a:latin typeface="Tahoma"/>
              </a:rPr>
              <a:t> p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KE THE FUTURE TENSE #3-4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dd –</a:t>
            </a:r>
            <a:r>
              <a:rPr b="0" lang="en-US" sz="4000" spc="-1" strike="noStrike">
                <a:solidFill>
                  <a:srgbClr val="e06ce0"/>
                </a:solidFill>
                <a:latin typeface="Arial"/>
              </a:rPr>
              <a:t>a/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+endings to the stem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219320" y="1981080"/>
            <a:ext cx="2209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095880" y="1905120"/>
            <a:ext cx="2210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3200400" y="198108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PERFECT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0440" y="1750680"/>
            <a:ext cx="792936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use a PERFECT STEM FROM THE 3</a:t>
            </a:r>
            <a:r>
              <a:rPr b="0" lang="en-US" sz="3200" spc="-1" strike="noStrike" baseline="30000">
                <a:solidFill>
                  <a:srgbClr val="ffffcc"/>
                </a:solidFill>
                <a:latin typeface="Verdana"/>
              </a:rPr>
              <a:t>RD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PRINCIPAL P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85800" y="3048120"/>
            <a:ext cx="304812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o, am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eo, ten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o,  pet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o,  cap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dio,  audi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809880" y="2971800"/>
            <a:ext cx="4343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ma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= I have lo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en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= I have h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ti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= I have sou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e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=  I have tak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udi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= I have he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KE THE PERFECT TEN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PERFECT person endings to the 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7920" y="2133720"/>
            <a:ext cx="21351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0880" y="2133720"/>
            <a:ext cx="2133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4724280" y="20574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7010280" y="20574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ERFECT ENDINGS agai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360160" y="1828800"/>
            <a:ext cx="21351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52280" y="175248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800600" y="18288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7010280" y="18288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8:20:35Z</dcterms:created>
  <dc:creator>St. Ignatius College Prep</dc:creator>
  <dc:description/>
  <dc:language>en-US</dc:language>
  <cp:lastModifiedBy>CFF</cp:lastModifiedBy>
  <dcterms:modified xsi:type="dcterms:W3CDTF">2010-03-08T02:55:24Z</dcterms:modified>
  <cp:revision>5</cp:revision>
  <dc:subject/>
  <dc:title>FORMING LATIN  VERB TENSES</dc:title>
</cp:coreProperties>
</file>